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carbrake.wav" ContentType="audio/x-wav"/>
  <Override PartName="/ppt/media/image8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A8CA-A086-4953-A0B1-40C1F388A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9F41-2B10-4F92-B328-1080DD44F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152D-5BDE-46AD-A6EC-711159E73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2F57-DB41-41DD-8F08-AAB6047CD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444C-B05C-474C-B087-892E7683C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8E2D-0401-47A4-83EE-BFE10E574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992D-7539-428A-8361-58D2997FA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20D5-9F44-478F-B784-9C7C38583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EFA3-477B-4E90-A6E3-64B43C094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BD01-C831-4B50-95FB-1516FA129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9739-3067-4F03-9962-51F44CE5F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CE4C-6DDB-4200-977A-944EF4209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8CB22-A554-4708-93DA-18752644B0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audio" Target="../media/carbrake.wav"/><Relationship Id="rId9" Type="http://schemas.openxmlformats.org/officeDocument/2006/relationships/audio" Target="../media/carbrake.wav"/><Relationship Id="rId10" Type="http://schemas.openxmlformats.org/officeDocument/2006/relationships/audio" Target="../media/carbrake.wav"/><Relationship Id="rId11" Type="http://schemas.openxmlformats.org/officeDocument/2006/relationships/audio" Target="../media/carbrake.wav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tamu.edu/ccbn/dewitt/images/santanna2.jpg&amp;imgrefurl=http://www.tamu.edu/ccbn/dewitt/viceroys2.htm&amp;h=505&amp;w=409&amp;sz=28&amp;tbnid=K8rkz4xCLD0J:&amp;tbnh=127&amp;tbnw=103&amp;start=3&amp;prev=/images%3Fq%3DAntonio%2Blopez%2Bde%2Bsanta%2Banna%26hl%3Den%26lr%3D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images.google.com/imgres?imgurl=http://www.davisandjones.com/djshow/archives/alamo/alamosm.jpg&amp;imgrefurl=http://www.davisandjones.com/djshow/archives/alamo/alamo2.html&amp;h=342&amp;w=360&amp;sz=74&amp;tbnid=IZQ4bpjLOo4J:&amp;tbnh=111&amp;tbnw=116&amp;start=2&amp;prev=/images%3Fq%3Dalamo%26hl%3Den%26lr%3D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homeofheroes.com/tribute/upload/William_B_Travis.png&amp;imgrefurl=http://www.homeofheroes.com/myhero/LT_Col_William_Barret_Travis.html&amp;h=300&amp;w=225&amp;sz=47&amp;tbnid=8hiD5jHPITsJ:&amp;tbnh=110&amp;tbnw=83&amp;start=18&amp;prev=/images%3Fq%3Dwilliam%2Btravis%2Balamo%26hl%3Den%26lr%3D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com/imgres?imgurl=http://www.lib.utexas.edu/photodraw/portraits/dcrockett.jpg&amp;imgrefurl=http://www.lib.utexas.edu/photodraw/portraits/&amp;h=608&amp;w=504&amp;sz=65&amp;tbnid=db8Ds1lpbtgJ:&amp;tbnh=132&amp;tbnw=110&amp;start=5&amp;prev=/images%3Fq%3Ddavid%2Bcrockett%2B1836%26hl%3Den%26lr%3D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images.google.com/imgres?imgurl=http://www.america-dreamz.com/texas/paysages/photos/bowie.jpg&amp;imgrefurl=http://www.america-dreamz.com/texas/paysages/alamo_village.php&amp;h=240&amp;w=193&amp;sz=17&amp;tbnid=l4am3LXT0w0J:&amp;tbnh=103&amp;tbnw=83&amp;start=9&amp;prev=/images%3Fq%3Djim%2Bbowie%2Balamo%26hl%3Den%26lr%3D" TargetMode="External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bchm.org/wrr/war/pnl4cw-15.jpg&amp;imgrefurl=http://www.bchm.org/wrr/war/p4c.html&amp;h=376&amp;w=640&amp;sz=55&amp;tbnid=aEtZv19XMeAJ:&amp;tbnh=79&amp;tbnw=134&amp;start=12&amp;prev=/images%3Fq%3Dmanifest%2Bdestiny%26hl%3Den%26lr%3D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images.google.com/imgres?imgurl=http://xroads.virginia.edu/~CAP/smithson/polk.jpg&amp;imgrefurl=http://xroads.virginia.edu/~CAP/smithson/polk.html&amp;h=337&amp;w=288&amp;sz=35&amp;tbnid=Xcj2xD7LcG8J:&amp;tbnh=114&amp;tbnw=98&amp;start=1&amp;prev=/images%3Fq%3Djames%2Bk%2Bpolk%26hl%3Den%26lr%3D%26sa%3DN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audio" Target="../media/carbrake.wav"/><Relationship Id="rId9" Type="http://schemas.openxmlformats.org/officeDocument/2006/relationships/audio" Target="../media/carbrake.wav"/><Relationship Id="rId10" Type="http://schemas.openxmlformats.org/officeDocument/2006/relationships/audio" Target="../media/carbrake.wav"/><Relationship Id="rId11" Type="http://schemas.openxmlformats.org/officeDocument/2006/relationships/audio" Target="../media/carbrake.wav"/><Relationship Id="rId12" Type="http://schemas.openxmlformats.org/officeDocument/2006/relationships/audio" Target="../media/carbrake.wav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army.mil/cmh-pg/books/cg%26csa/Scott-W.JPG&amp;imgrefurl=http://www.army.mil/cmh-pg/books/cg%26csa/Scott-W.htm&amp;h=1485&amp;w=1104&amp;sz=177&amp;tbnid=RSvPqHjSMLYJ:&amp;tbnh=149&amp;tbnw=111&amp;start=13&amp;prev=/images%3Fq%3Dwinfield%2Bscott%26hl%3Den%26lr%3D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523880" y="304920"/>
            <a:ext cx="55152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anifest Destiny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2818800" y="1600200"/>
            <a:ext cx="283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n L. O’Sulliv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stward expa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838080" y="2743200"/>
            <a:ext cx="19814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exas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1808280" y="3699000"/>
            <a:ext cx="5305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xico gained independence from Sp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nted to lessen influence of Na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comed U.S. citizens into terri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mpres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73040" y="5292720"/>
            <a:ext cx="45244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Moses &amp; Stephen Austin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81360" y="5791320"/>
            <a:ext cx="710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ruited many settl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ly protestant cotton farmers (problem w/ Mexico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943600" y="1752480"/>
            <a:ext cx="266688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09480" y="304920"/>
            <a:ext cx="58676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reaty of Guadalupe Hidalgo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7" name=""/>
          <p:cNvSpPr/>
          <p:nvPr/>
        </p:nvSpPr>
        <p:spPr>
          <a:xfrm>
            <a:off x="1803600" y="1108080"/>
            <a:ext cx="606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 of the Mexican W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xican Cession of American Southw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15 Million for land + pay all claims of settl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62120" y="2666880"/>
            <a:ext cx="46670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Gadsden Purchas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9" name=""/>
          <p:cNvSpPr/>
          <p:nvPr/>
        </p:nvSpPr>
        <p:spPr>
          <a:xfrm>
            <a:off x="1976400" y="3505320"/>
            <a:ext cx="519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53 purchase of land from Mex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10 Million for land south of Gila 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-1181160" y="213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33520" y="4495680"/>
            <a:ext cx="3276360" cy="20638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000160" y="226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876920" y="4495680"/>
            <a:ext cx="3047760" cy="20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53352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Texas Revolutio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"/>
          <p:cNvSpPr/>
          <p:nvPr/>
        </p:nvSpPr>
        <p:spPr>
          <a:xfrm>
            <a:off x="1883880" y="1488960"/>
            <a:ext cx="478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immigrants moving into Tex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without per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,000 U.S. settlers by 18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143000" y="2819520"/>
            <a:ext cx="5419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Antonio Lopez de Santa Anna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037960" y="3317760"/>
            <a:ext cx="3755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ed President of Mex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k dictatorial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hen Austin jailed 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ans Revolt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34320" y="2362320"/>
            <a:ext cx="1484280" cy="18288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1371600" y="5029200"/>
            <a:ext cx="1571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lamo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4" name=""/>
          <p:cNvSpPr/>
          <p:nvPr/>
        </p:nvSpPr>
        <p:spPr>
          <a:xfrm>
            <a:off x="2192760" y="5832360"/>
            <a:ext cx="284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n Anton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nish Mission/f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images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72200" y="4495680"/>
            <a:ext cx="220968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304920" y="228600"/>
            <a:ext cx="3076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(Still Alamo)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7" name=""/>
          <p:cNvSpPr/>
          <p:nvPr/>
        </p:nvSpPr>
        <p:spPr>
          <a:xfrm>
            <a:off x="1668240" y="990720"/>
            <a:ext cx="578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 Mexican force arrives to retain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9 Texans defend Alamo against at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09480" y="1981080"/>
            <a:ext cx="272412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William Travis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Jim Bowie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Davie Crockett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9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57600" y="1752480"/>
            <a:ext cx="1324080" cy="1752840"/>
          </a:xfrm>
          <a:prstGeom prst="rect">
            <a:avLst/>
          </a:prstGeom>
          <a:ln w="0">
            <a:noFill/>
          </a:ln>
        </p:spPr>
      </p:pic>
      <p:pic>
        <p:nvPicPr>
          <p:cNvPr id="60" name="images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238880" y="1752480"/>
            <a:ext cx="1460520" cy="1752840"/>
          </a:xfrm>
          <a:prstGeom prst="rect">
            <a:avLst/>
          </a:prstGeom>
          <a:ln w="0">
            <a:noFill/>
          </a:ln>
        </p:spPr>
      </p:pic>
      <p:pic>
        <p:nvPicPr>
          <p:cNvPr id="61" name="images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410080" y="1752480"/>
            <a:ext cx="1413000" cy="17528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902240" y="3733920"/>
            <a:ext cx="437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ch 6, 1836 – Mexicans at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 defender ki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0 Mexicans d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33520" y="5105520"/>
            <a:ext cx="19047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Goliad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4" name=""/>
          <p:cNvSpPr/>
          <p:nvPr/>
        </p:nvSpPr>
        <p:spPr>
          <a:xfrm>
            <a:off x="1671480" y="6019920"/>
            <a:ext cx="629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400 Texans surrendered &amp; were then executed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80880" y="457200"/>
            <a:ext cx="2971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an Jacinto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295280" y="1447920"/>
            <a:ext cx="2448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Sam Houston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112840" y="2251080"/>
            <a:ext cx="6321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 April 18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00 Texans attack Santa Anna’s Ar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ttle lasts only min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 600 Mexicans ki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EMBER THE ALAMO!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nta Anna captured &amp; forced to sign Texas 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5029200"/>
            <a:ext cx="54291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nnexation of Texas?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905120" y="380880"/>
            <a:ext cx="53337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Republic of Texas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" name=""/>
          <p:cNvSpPr/>
          <p:nvPr/>
        </p:nvSpPr>
        <p:spPr>
          <a:xfrm>
            <a:off x="1136520" y="1295280"/>
            <a:ext cx="6206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 Houston elected President of Tex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36-1845 – Lone Star Re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thern opposition to annex another slave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as attempts to increase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371600" y="5334120"/>
            <a:ext cx="2190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Juan Seguin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680" y="3200400"/>
            <a:ext cx="31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xas has its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823400" y="3733920"/>
            <a:ext cx="529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e discrimination agains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ja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ional deb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lict with Mex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29200" y="4343400"/>
            <a:ext cx="388620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2057400" y="304920"/>
            <a:ext cx="4876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Election of 1844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523880"/>
            <a:ext cx="228600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Henry Clay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57080" y="2251080"/>
            <a:ext cx="501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g, Kentucky (Great Compromis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d not mention annex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762120" y="3200400"/>
            <a:ext cx="2600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James K. Polk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811160" y="3851280"/>
            <a:ext cx="46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ocrat, Tennessee (Dark Hor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vored expansion/annex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371600" y="5334120"/>
            <a:ext cx="4971960" cy="108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Polk elected President !!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4424400" y="2870280"/>
            <a:ext cx="360" cy="457200"/>
            <a:chOff x="4424400" y="2870280"/>
            <a:chExt cx="360" cy="457200"/>
          </a:xfrm>
        </p:grpSpPr>
        <p:sp>
          <p:nvSpPr>
            <p:cNvPr id="82" name=""/>
            <p:cNvSpPr/>
            <p:nvPr/>
          </p:nvSpPr>
          <p:spPr>
            <a:xfrm>
              <a:off x="4424400" y="28702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424400" y="2870280"/>
              <a:ext cx="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4424400" y="2870280"/>
            <a:ext cx="360" cy="457200"/>
            <a:chOff x="4424400" y="2870280"/>
            <a:chExt cx="360" cy="457200"/>
          </a:xfrm>
        </p:grpSpPr>
        <p:sp>
          <p:nvSpPr>
            <p:cNvPr id="85" name=""/>
            <p:cNvSpPr/>
            <p:nvPr/>
          </p:nvSpPr>
          <p:spPr>
            <a:xfrm>
              <a:off x="4424400" y="28702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424400" y="2870280"/>
              <a:ext cx="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4424400" y="2870280"/>
            <a:ext cx="360" cy="457200"/>
            <a:chOff x="4424400" y="2870280"/>
            <a:chExt cx="360" cy="457200"/>
          </a:xfrm>
        </p:grpSpPr>
        <p:sp>
          <p:nvSpPr>
            <p:cNvPr id="88" name=""/>
            <p:cNvSpPr/>
            <p:nvPr/>
          </p:nvSpPr>
          <p:spPr>
            <a:xfrm>
              <a:off x="4424400" y="28702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424400" y="2870280"/>
              <a:ext cx="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4424400" y="2870280"/>
            <a:ext cx="360" cy="457200"/>
            <a:chOff x="4424400" y="2870280"/>
            <a:chExt cx="360" cy="457200"/>
          </a:xfrm>
        </p:grpSpPr>
        <p:sp>
          <p:nvSpPr>
            <p:cNvPr id="91" name=""/>
            <p:cNvSpPr/>
            <p:nvPr/>
          </p:nvSpPr>
          <p:spPr>
            <a:xfrm>
              <a:off x="4424400" y="28702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424400" y="2870280"/>
              <a:ext cx="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3" name="clay_pic2" descr=""/>
          <p:cNvPicPr/>
          <p:nvPr/>
        </p:nvPicPr>
        <p:blipFill>
          <a:blip r:embed="rId1"/>
          <a:stretch/>
        </p:blipFill>
        <p:spPr>
          <a:xfrm>
            <a:off x="7315200" y="114300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94" name="images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315200" y="3429000"/>
            <a:ext cx="15066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2133720" y="228600"/>
            <a:ext cx="4495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Mexican War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838080" y="1219320"/>
            <a:ext cx="1971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Causes: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7" name=""/>
          <p:cNvSpPr/>
          <p:nvPr/>
        </p:nvSpPr>
        <p:spPr>
          <a:xfrm>
            <a:off x="1442880" y="1981080"/>
            <a:ext cx="722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k wants to annex Tex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xico still believes Texas is their 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45 Texas admitted in the U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rder dispute continues (Rio Grande or Nueces River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143000" y="3657600"/>
            <a:ext cx="27432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Zachary Taylor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960000" y="3657600"/>
            <a:ext cx="291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ent to disputed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143000" y="4267080"/>
            <a:ext cx="20955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John Slidell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04160" y="4308480"/>
            <a:ext cx="545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 to Mexico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settle dispute &amp; get more lan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 ch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37240" y="5442120"/>
            <a:ext cx="673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.S. picks a figh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ylor moves deeper into territory &amp; is attac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xico … shed American blood on American soil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137600" y="2819520"/>
            <a:ext cx="6596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raham Lincoln challenges President Pol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derick Douglass opposes w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Northerners &amp; abolitionists oppose w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. Polk’s War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4648320"/>
            <a:ext cx="4971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he Fighting Begins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09480" y="2133720"/>
            <a:ext cx="5419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Opposition to the War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228600"/>
            <a:ext cx="5219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he Bear Flag Revolt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7" name=""/>
          <p:cNvSpPr/>
          <p:nvPr/>
        </p:nvSpPr>
        <p:spPr>
          <a:xfrm>
            <a:off x="1350360" y="803160"/>
            <a:ext cx="477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n C. Frem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.S. secretly invol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ifornia independent from Mex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143000" y="5486400"/>
            <a:ext cx="2876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Stephen Kearny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69800" y="5985000"/>
            <a:ext cx="404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tured Santa 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.S. control over New Mex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762120" y="304920"/>
            <a:ext cx="27432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Zachary Taylor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66560" y="762120"/>
            <a:ext cx="7512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ld Rough &amp; Ready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ttle of Palo Al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vances into Mex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ttle of Buena Vi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,000 U.S. vs. 15,000 Mexi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nta Anna withdraws… many casualties on both s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3124080"/>
            <a:ext cx="26002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Winfield Scott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82200" y="3699000"/>
            <a:ext cx="4978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ld Fuss &amp; Feather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phibious assault into Mex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ttle of Veracru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vances further into Mex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ts off communica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ttle of Cerro Gor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ttle of Puebla de Zarago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ttle of Chapultepec (Mexico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77120" y="3124080"/>
            <a:ext cx="1873080" cy="2514600"/>
          </a:xfrm>
          <a:prstGeom prst="rect">
            <a:avLst/>
          </a:prstGeom>
          <a:ln w="0">
            <a:noFill/>
          </a:ln>
        </p:spPr>
      </p:pic>
      <p:pic>
        <p:nvPicPr>
          <p:cNvPr id="115" name="images" descr=""/>
          <p:cNvPicPr/>
          <p:nvPr/>
        </p:nvPicPr>
        <p:blipFill>
          <a:blip r:embed="rId3"/>
          <a:stretch/>
        </p:blipFill>
        <p:spPr>
          <a:xfrm>
            <a:off x="6705720" y="228600"/>
            <a:ext cx="14475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5T20:17:58Z</dcterms:created>
  <dc:creator>nalbert</dc:creator>
  <dc:description/>
  <dc:language>en-US</dc:language>
  <cp:lastModifiedBy>nalbert</cp:lastModifiedBy>
  <dcterms:modified xsi:type="dcterms:W3CDTF">2007-12-17T20:16:36Z</dcterms:modified>
  <cp:revision>23</cp:revision>
  <dc:subject/>
  <dc:title>PowerPoint Presentation</dc:title>
</cp:coreProperties>
</file>